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9.wmf" ContentType="image/x-wmf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4918C-B1D9-4D5C-A2C5-2BB5EEA70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19A38-B00A-4C56-811D-A83D86CC6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28856-4B91-40E2-BD2E-AE65464F6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E5E1A-EF42-4BB8-8152-99CF69EE8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AAABD-AFAD-4047-9CD3-9454BFC32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D6F0C-6A3F-4E5C-AE31-CDD1C343A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FCBB4-24EC-460A-9D21-93958021D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F3CA8-F39A-4EE0-89CB-6373222EB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5BC45-F977-40DA-8529-37B1BEEC3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5277E-8A55-4101-9F88-63056BC0B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02242-4FAA-435E-9A02-03420F73F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6FAFE-A6C1-4B98-BEFA-EC079636B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23ACA-F80D-412D-B1A4-D6E5FFAF5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8AD73-6C8E-4797-AD52-CC909C10D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8EC80-4DC9-4838-9703-653628336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2FF7E-8904-42D0-B82F-2B4F701AC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783E4-AC42-46F2-96B9-0315838F2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0104A-0313-408A-8945-77DDD866B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D36E0-43F1-4C7A-9500-19D2E9041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00A2C-FFC0-446B-A86D-9F6760E16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E6E27-C2B7-4F0B-862B-5C04FE49B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88A0E-93E0-4324-9A2D-506B4FB57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E9AE0-52EB-4303-A9A8-C3E149345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FE098-E34B-4094-8CCC-82AE259F8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0437A-945C-4BD9-A6CE-811586453B64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F9D9A-8B7F-4300-9E66-E712FBC17018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0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26920" y="404280"/>
            <a:ext cx="77724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b2b2b2"/>
                </a:solidFill>
                <a:latin typeface="Arial"/>
              </a:rPr>
              <a:t>Nomination for </a:t>
            </a:r>
            <a:br>
              <a:rPr sz="3600"/>
            </a:br>
            <a:r>
              <a:rPr b="1" lang="ru-RU" sz="3600" spc="-1" strike="noStrike">
                <a:solidFill>
                  <a:srgbClr val="b2b2b2"/>
                </a:solidFill>
                <a:latin typeface="Arial"/>
              </a:rPr>
              <a:t>Santos Dumont Gold Airship Medal</a:t>
            </a: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692360" y="5445000"/>
            <a:ext cx="6400800" cy="13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Leonid TYUKHTYAEV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SSIA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268360" y="1870200"/>
            <a:ext cx="5183280" cy="345420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2b2b2"/>
                </a:solidFill>
                <a:latin typeface="Arial"/>
              </a:rPr>
              <a:t>Leonid TYUKHTYAEV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924360" y="2492280"/>
            <a:ext cx="475776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ate of birth – 21 of June, 195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 ballooning from 199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t-air &amp; Gas balloons and Airship pilo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ational Absolute Altitude Record holder (Class A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ussian Alternate in CIA FA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20840" y="1413000"/>
            <a:ext cx="332892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FAI World Record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8360" y="5444640"/>
            <a:ext cx="8229600" cy="11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Se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mber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4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2008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– Flight of Au-30 Gas Airship (Saint-Peterburg – Vladimi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AI World Record for subcategories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BA-05 - BA-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Distance - 626.1 km (FAI Database ID 15161-15166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763640" y="1557360"/>
            <a:ext cx="5616720" cy="374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FAI World Record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8360" y="580536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Sep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ember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14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2008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– Flight of Au-30 Gas Airship (Saint-Peterburg – Vladimir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AI World Record for subcategories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BA-05 - BA-1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Distance - 626.1 km (FAI Database ID 15161-15166)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908000" y="1484280"/>
            <a:ext cx="5394600" cy="412596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292720" y="1413000"/>
            <a:ext cx="2519280" cy="16812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1763640" y="3571920"/>
            <a:ext cx="2160720" cy="216072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FAI World Record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68360" y="5444640"/>
            <a:ext cx="8229600" cy="11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Feb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uary 03,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2009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AI World Record for subcategory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BX-03, Distance - 99.136 km (FAI Database ID 1524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Feb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uary 24,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2009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AI World Record for subcategory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BX-03, Duration - 5 h 5 min (FAI Database ID 15243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692360" y="1125360"/>
            <a:ext cx="5689440" cy="38116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Russian Records Factory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123640" y="1341000"/>
            <a:ext cx="4753080" cy="43210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2484360" y="1413000"/>
            <a:ext cx="4175280" cy="417492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755640" y="5805360"/>
            <a:ext cx="792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ussian Records Factory was established by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ONID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TYUKHTYAEV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in 2006 to help Russian and former-USSR pilots with national and world record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NOMINATION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020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The Federation of Aeronautics of Russia conside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that thes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orld record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flights are an outstanding performance in airships and proudly presen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L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ONID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TYUKHTYAEV as a candidate for the Santos Dumont Gold Airship Medal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5580000" y="1628640"/>
            <a:ext cx="3111480" cy="44643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3132000" y="1628640"/>
            <a:ext cx="242280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5T18:47:31Z</dcterms:created>
  <dc:creator>Stanislaw Fuodoroff</dc:creator>
  <dc:description/>
  <dc:language>en-US</dc:language>
  <cp:lastModifiedBy>Stanislaw Fuodoroff</cp:lastModifiedBy>
  <dcterms:modified xsi:type="dcterms:W3CDTF">2010-03-13T08:47:47Z</dcterms:modified>
  <cp:revision>19</cp:revision>
  <dc:subject/>
  <dc:title>Nomination for  Santos Dumont Gold Airship Medal </dc:title>
</cp:coreProperties>
</file>