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D295-CDA6-4232-A678-49ED85B50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8DC6-74EF-4575-AB96-CFA70FFF8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8E2B-B496-4653-83FB-B7AB5771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6F86-DE9A-454A-8E1B-6B4AE5A49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0F88-F174-487E-8187-04D7C357B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8A7BE-CF3F-414B-BA9D-FAC61D131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561FA-EF9C-49B3-AF1B-9C27167B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68245-DD5A-49C4-965E-DDE49D46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242B7-3B79-415C-9A6B-BF03097F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3AB23E-B67F-4BF5-84A9-A42D6A15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1865B1-4C0A-46A9-B0FE-21288AFF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F927D-68BE-4E20-80E2-0FFCDF2C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2316-BB72-4DBE-B558-A4C0B94F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2C335-5863-420F-9EAD-EA9A1FBB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E58E0-9452-4293-BCFD-3C6190C9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F3B74-1515-43F8-AFD7-A605D37E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30C0F-D4CC-4FDD-8E26-B115B7448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C85C5-C742-4DC5-BDA9-27711840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6447-68BE-4363-B00D-797A03EE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1A65-11EE-4B8A-92AA-5FC721A9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145E-8BD4-4CCB-8FEC-78AD92F9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9B27-41A0-4FCC-8A6C-BCA8835F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C40C-8E82-422B-98D2-C4BFF343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F665-AD79-45D0-872B-E39DB0A2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05BE-1068-4297-B171-7B3E7027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309E-9B95-4A32-9D2C-1E88C81E64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1F46-1854-49DD-9C6F-A7FFBEFBA6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ternational Parachuting Commiss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IE" sz="4800" spc="-1" strike="noStrike">
                <a:solidFill>
                  <a:srgbClr val="ffffff"/>
                </a:solidFill>
                <a:latin typeface="Tahoma"/>
              </a:rPr>
              <a:t>2001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In 31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92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6.872,438 skydives were m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17,2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74,700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,534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400" spc="-1" strike="noStrike">
                <a:solidFill>
                  <a:srgbClr val="ffffff"/>
                </a:solidFill>
                <a:latin typeface="Tahoma"/>
              </a:rPr>
              <a:t>92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7 Studen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9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3 Interm.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5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42 Exper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46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51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Cutaway/No or low reserve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No pull/low pull on mai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Other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Other ‘ Fatalities (64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Other Landing Error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 Mal. – no cutaway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Jumpers striking aircraft in ai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edical (Heart attacks)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apse near Ground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Reserve mal.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trangulation by reserve rise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24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Low Cutawa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Main/Reserve Entangl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No/low Main Canopy Activatio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Tahoma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84% of the fatalities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40%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35% of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94% of fatalities would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Tahoma"/>
              </a:rPr>
              <a:t>12 of the 92 Fatalities were First Jump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Noticeabl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Report, along with 2001 AAD Report, has been sent by e-mail to all respondents and to all other countries for which we have e-mail addresses.  Hard copie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3-01-29T10:35:12Z</dcterms:modified>
  <cp:revision>7</cp:revision>
  <dc:subject/>
  <dc:title>SAFETY &amp; TRAINING FORUM 25 January 2003</dc:title>
</cp:coreProperties>
</file>