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2CD5-BAFC-4254-90DB-DEE8A9B5C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6BB2-F1B7-4A9F-9DA6-65317C35BF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D748-C663-4333-9086-7C650BB54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533F-5F32-4325-A694-D89695A5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AAF6-91FC-4D1B-909E-CE3102182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D21C-F0AF-4693-9963-757968F8C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DFDAE-2EBC-42FC-A092-7F990F7BB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3D639-409F-4CF0-A172-47EAA9FE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4F11C-AE0A-4D71-819A-9AA3C3EE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4A67-42A0-4D9D-997A-53D189F3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8F0F-485B-487C-841E-0EA0A35F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9535-1B14-4A0D-BB00-9A1F8D2E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DE2F8-E6DD-4E89-83DD-4949A69C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8E93-84A8-44D9-B8D8-274A4E6C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D84A-6C64-46A3-B0A4-6AF46198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B59C-C9E7-4C29-9ADF-47181874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55744-C525-40E2-8EB0-DA4C1B0A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3544-A939-4BB4-89D1-1B83F52B7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67F0-00A1-4EAB-BC75-AC593AA70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47C9-A830-4475-B67F-90DA2D28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AECC-9A8C-46F5-9E57-1E18E01B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796D-731B-413E-A7FF-89AF8ACA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49D1-DEE7-414D-B195-C687CAB6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D753-DEF8-4521-9C06-CE510CB1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BAF8-6D01-4B31-9F1E-2EA1B5BA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F86D-229A-49B0-99AB-B9047D3F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441C-B40C-4D3B-B242-AA724FB8BB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5D2A-29DB-43D5-A606-F5CE95001E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8.jpe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 Power Point Presen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Form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Notes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400" spc="-1" strike="noStrike">
                <a:solidFill>
                  <a:srgbClr val="ffffff"/>
                </a:solidFill>
                <a:latin typeface="Arial"/>
              </a:rPr>
              <a:t>A Report on Present International Regulations Regarding Diabetes Mellitus        Type 1 and Air S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13 are requested to make a speci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ffort to do so for 2014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ffffff"/>
                </a:solidFill>
                <a:latin typeface="Arial"/>
              </a:rPr>
              <a:t>Respon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68000" y="1628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39 countries responded, from a possible approximately 85, a response rate of 46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The response rate was similar to 2012 and has been about this rate for the 26 years of the Safety Surve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With computerised records now commonly used, it is regrettable that the collection of data for the Safety Report does not appear to be made in many countrie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Countries are strongly encouraged to set up data collection systems, which are an essential part of risk assessment and are of value in dealing with sports and aviation author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3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805,975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381,239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7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; there were no Tandem fatalities in 201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19,403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24,232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7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(1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Intermediate (1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(6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 Unicode MS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6983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-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or Low Main Deploy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 Caus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Equipment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 Malfunction , no ac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Jumper Fell from Harnes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utaway Good Canopy, no further action 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il strike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F wra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action, AAD fir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but did not cut reserve closing loo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_ipc_01_trait copie"/>
          <p:cNvPicPr/>
          <p:nvPr/>
        </p:nvPicPr>
        <p:blipFill>
          <a:blip r:embed="rId15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235116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- 25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pull on main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9% of 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– 12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+ 7 = 21 (37% of total fatalities, 5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, 42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26 (46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21 (37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51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REE of the 2013 Fatalities  (5% of 57) were First Jump Students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percentage of fatalities, 21 (37% of 57)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AAD and RSL now widely u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582,526 Solo jumps – 1,223,44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0 ; Solo Fatalities 57 (10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5-01-22T16:03:18Z</dcterms:modified>
  <cp:revision>97</cp:revision>
  <dc:subject/>
  <dc:title>SAFETY &amp; TRAINING FORUM 25 January 2003</dc:title>
</cp:coreProperties>
</file>