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2C84-D9D1-4FB0-B671-DEB746CAD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231F-D100-4690-BDBF-C07876C7D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99E2-9811-4D12-AAED-D5DA2B4AC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962C-DA06-4167-9D6C-304A53C6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26E6-28B0-4952-9847-BCDC73246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16A4-9A85-4D7B-B403-139A5BE60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A738-489D-4F18-BF65-D2CA44332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9FB8-5D90-4D1A-A673-3DDE070A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A24A-B135-4381-A0F8-A4E9F57F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011C-5954-441E-AA04-771F3B4D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058C-0221-49A6-9D1D-AA59B6F1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B3E6-877E-4F27-9347-22D0166B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6887-D977-463B-9E48-19AC1FA7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28AC-BBD2-4D06-8016-7B720CB5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98E8-EDD4-4E67-9F02-BAF35E8A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D62E-6225-4626-8C46-CE559148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CD5E-B8E3-48D1-BDB8-0EB9BE36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CF25-B601-4574-9FC3-52C42B10F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5CC2-80E5-4E73-A76F-8CEE56C7E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0E24C-A33E-4208-A023-4869F3E2F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85CA3-69E3-4376-ADC2-4299BD3A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57463-F3E0-47C3-A33D-EDBBFC02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2015D-3679-43A2-B7E2-C8663EC2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CC8F1-C691-4BAA-A675-4CE223A0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8D42-1149-4B1A-9983-8A55E24D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C8D4F-381B-4C0F-9D24-9A1EC51D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270BC-734D-4A9C-A7E6-0889DED9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224EF-2F4A-440E-8B98-9C24846A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1A5B8-9F8E-4359-B1F7-63C0B00F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A156E-E0FB-4DE1-BA5E-B118ACD9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AC17D-07D3-4A8B-9E6E-BB7E401A9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95B6E-A760-497D-A009-00FFD7D37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E3BDA-B09A-4A2B-8747-4693F0775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544DD-FDC0-42F2-B537-9EE3667B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DD9CE-5354-47D5-974D-EFE05D00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B48B-3F1B-4D9B-8124-1F1D481F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CB5B0-C6EA-4956-AEDD-EE21AC92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4FF65-49CD-4B72-8093-B9369BB4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49E9F-44C0-4664-9857-854FA9E5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41D57-3C8A-4A65-9DDA-A9417771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0AEB6-C54F-4F0C-A1FB-9DFF1771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7CC48-66E3-4C1B-A195-84569AC1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727D9-BBDA-44CB-9062-A941ADC9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DE990-9356-4137-AFB8-7C1BE0693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5A495-C4CC-4541-8154-8A778518D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29EB-415B-4C9B-AC2B-44F64ACD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B699-4E64-423B-B710-121E6B18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231B-231E-404C-9102-C8AF979E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93B2-FD09-43F9-8806-5F85E1DD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AC6F-F699-4ACD-BD4A-A1D4BB01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B2EC-0B90-4C75-BEBF-1C5BD230D93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DDF8-29B4-41FC-BB19-C525CCCDFDE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8B7E-3D40-4C55-B8C1-A5049B0AD2B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DAD8-9E92-455B-B9F0-77C0AF8D00B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Form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Notes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3) issued in 2015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4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5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7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4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237,725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14,867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hree Tandem fatalities in 2014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01,20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42,415 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(1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2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1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2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2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6983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 bridle entanglement with camer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lmet after unstable reserve activat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ow radical turn, high impact with water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using lung damage and death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stability, no Main deployment, AAD activate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, freebag caught on jumper, insuffici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ight for reserve deployment, reserve line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rapped under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jumper’s arm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1    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25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6 - 19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s iss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nd Canopy Collision – each a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4 – 13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3 – 10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39% of total fatalities, 3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0 (65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1 (35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6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3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4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39% of 3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640"/>
            <a:ext cx="8229600" cy="33415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75,020 Solo jumps – 1,162,7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3 ; Solo Fatalities 28 (3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6-01-14T20:42:49Z</dcterms:modified>
  <cp:revision>105</cp:revision>
  <dc:subject/>
  <dc:title>SAFETY &amp; TRAINING FORUM 25 January 2003</dc:title>
</cp:coreProperties>
</file>