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EB184-FEC0-4812-A414-93EAFBF74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26DB-56DB-494B-BB7E-E1EE6D57D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6AEE-4986-4B5B-99B8-27F1DFFB8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2B01-6E2C-4D53-9FE1-2A530EC4F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A05A-B3F7-4E8E-8A55-9E9C5EA55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630A0-85F3-4332-BB86-078EAFB25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548D8-D1BC-4AE2-9BF8-2A9B7C3B5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5387E-8CDC-4519-87E1-EA07D75A4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2D2D3-1323-4338-952C-6E8EB3C93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4ED6E-C1BE-40E4-A310-6E532DF9C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0048C-AA25-4AA4-BFDE-5A77C1083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B4CE6-7CB0-4E89-B5BA-8039F82B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0A9C-EBB6-442D-89F5-801F8C85F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69356-A292-4330-A774-5C34CFB1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3F1EE-6389-458C-9E0C-AE5BD280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0790A-981F-440D-B8C9-C650507D1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84EDE-9854-4EAB-A6D4-5FC45428F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29366-1671-4272-AFED-B9DF923CB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11A6-D7D6-452F-AFAA-08F0D75F1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D789-FE60-4B88-A2BF-6303F0629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6520-211A-4F14-984A-41BFC608F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E751-441C-4EDD-901D-E75910AF7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C892-D989-4DB7-BC0E-723CDCA7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3598-DDE9-45E4-948A-DAC4D2F5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465F-3B23-46A2-9617-EA2B3CB6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D5F76-6AC4-4916-AB61-32D44166F68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61CC4-3DCA-47A8-BFC7-F8CF7635142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4.jpeg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55640" y="549360"/>
            <a:ext cx="331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59054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2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7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230,563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059,937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53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98,690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9,999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53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1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1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1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6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4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4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71640" y="1196640"/>
            <a:ext cx="7423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Equipment Problem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Unexplained jumper incapacity, main deployed, no input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edical Condition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malfunction, no action, spiralled to ground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Cutaway handle pulled, main released, no reserve pull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/reserve entanglement, after AAD fire at fast land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/reserve entanglement after cutaway,  3-ring trapped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AFF Jump, student limp in harness at 300m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Collision with aircraft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cutaway by student at 50m, too low for reserve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ast spirals to ground, jumper may have been incapacitated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lag jump, flag escaped and obscured handles, no pull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Reserve opened incorrectly due to unstable position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Landed in tree, killed during rescue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canopy malfunction on land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Total 4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1"/>
          <a:stretch/>
        </p:blipFill>
        <p:spPr>
          <a:xfrm>
            <a:off x="6948360" y="18900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5280" y="2349360"/>
            <a:ext cx="83534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10 – 1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 6 – 11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Main Canopy  Activation  5 – 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Cutaway &amp; Reserve Activ. 5 – 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000" y="1918800"/>
            <a:ext cx="800244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53 fatalities (74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22 of the 53 fatalities (42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53 fatalities (19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53 fatalities (7%) appear to have been caused by human error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5 (9.4%)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of the 53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3 ( 5.7%) of the 53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4167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here was a very wide range of causes of fatalities in 2012, but the underlying factor appears to have been non-adherence to standard and fundamental practi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, 19 – 36%, resulting from canopy handling and landing issues – a continuing concer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4,276,101 Solo jumps – 954,462 Tand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8.2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Solo Jumps - 22.3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he ratio of Tandem to all jumps and to solo jumps is steadily increasing since 20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3 (5.7%)       Solo Fatalities 50 (94.3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99640" y="1557000"/>
            <a:ext cx="7543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Power Point presentation and the full 2012 Safety Report, have been sent by e-mail to all respondents and to all other countries for which there are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2 Safet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2 Safet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3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3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5) issued in 2013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12 are requested to make a special effort to do so for 2013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7020000" y="765000"/>
            <a:ext cx="1328760" cy="7700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 </cp:lastModifiedBy>
  <dcterms:modified xsi:type="dcterms:W3CDTF">2014-01-22T19:15:56Z</dcterms:modified>
  <cp:revision>66</cp:revision>
  <dc:subject/>
  <dc:title>SAFETY &amp; TRAINING FORUM 25 January 2003</dc:title>
</cp:coreProperties>
</file>