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130D-40B5-4054-A2B7-003178D51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C39C-70E2-4D22-8BB4-83F60865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A5A8-D585-4C91-89E7-97E0175C9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1D42-538E-48DA-8B31-208447407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9AC6-76B9-442D-AE8C-BCA02866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1A6C-43E8-4E0E-BB6F-9601D0A6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4511-64C2-4B87-8C1A-74F69DC8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6D8D-C46A-49DA-B95F-5D0CE6A6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4262-B14B-4D75-9BBE-68C4640A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FF58-C4F5-4FEB-897F-AA4F5A89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99F4-E2C8-4373-A959-1F255948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E8EF-8D27-49E0-BF4E-9C762E74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0775-6E24-4374-96C2-B7A85AF2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D784-F77A-496C-B3AC-D02D354B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4D67-5509-4028-AA1E-CF129A4D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C6E1-D955-470F-9073-71BB51385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CE21-F8F7-4576-A1B6-56ACBA42A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DC68-EA3C-4CB5-BAFD-912F436F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1FA4-29FE-4D50-AD3A-116D2464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3C95-BF4A-48C7-A267-7E8204AE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ED49-A6ED-4C24-AC3A-6EDABEFE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0262-AE58-47E3-8988-A854F784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5D79-854F-4956-B276-AA14C6CC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10D7-DC7B-42DC-980F-4CBC97B9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5CA2-E561-4073-A382-06419A6B203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236000" y="333360"/>
            <a:ext cx="151272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39640" y="623736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IVL Plenary 2006, Lausa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3D35-EF5B-43EB-BA71-AB9D9E86AC5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512720" cy="977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5000" spc="-1" strike="noStrike">
                <a:solidFill>
                  <a:srgbClr val="006633"/>
                </a:solidFill>
                <a:latin typeface="Garamond"/>
              </a:rPr>
              <a:t>CIVL Competition Software and database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Agust Gudmund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Vice-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Chairman of the Software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Internet and loc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modules available at the inter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modules also standalone Windows Cl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ata transfer to and from the CIVL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Benefi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or CIVL faster and more accurat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rganiz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REE competition software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Get data from CIVL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Easy delivery of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ccurate personal data (like spelling of na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Online regist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ore information on results and WP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Time and mon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Timeframe (inten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atabase ** Version 1.0 almost Ready 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Competitions, pilots, WPRS, interf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ro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curacy 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XC **Before year end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Budget is to make sure the project will not stop because of money shortage.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Hopefully it will not all be used. 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One year worth of Sanction fe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urrent syst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- pilot ranking  (on CIVL we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ce 2003 –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any flight verification systems (gp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G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any other systems (some fre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ther systems (online registration..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New software projec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– pilot ran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eb client if Internet connection i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indows client for standalone 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Data is transferred from CIVL competi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Results returned to the CIVL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For all CIVL disciplines</a:t>
            </a: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1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2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5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Aeroba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ccur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erobatic (solo and syncr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000" spc="-1" strike="noStrike">
                <a:solidFill>
                  <a:srgbClr val="000000"/>
                </a:solidFill>
                <a:latin typeface="Arial"/>
              </a:rPr>
              <a:t>Different needs for tasks/scoring/WP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IVL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 database (register even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ay sanction f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Results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ask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Scores of every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racklo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Total sc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cou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plil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Pilots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have unique 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pilots 2001-2005 already regist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and update own personal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for compet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ompet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egister a competi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participants (already in the databas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reate ta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o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task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competition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competition to WPRS </a:t>
            </a: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and CIVL databa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Ran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disciplines (and fema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fferent WPRS formulas for each discip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nking updated regula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ore information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Tasks and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WPRS (with backward hist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Scoring for all discipli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curacy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robati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X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ifferent scoring formu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0:30:12Z</dcterms:created>
  <dc:creator>ag</dc:creator>
  <dc:description/>
  <dc:language>en-US</dc:language>
  <cp:lastModifiedBy>ag</cp:lastModifiedBy>
  <dcterms:modified xsi:type="dcterms:W3CDTF">2006-02-11T10:45:48Z</dcterms:modified>
  <cp:revision>15</cp:revision>
  <dc:subject/>
  <dc:title>CIVL Competition Software </dc:title>
</cp:coreProperties>
</file>