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2C81-1A77-4D56-88C3-80AD77868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FED5-BEFB-4D1B-A24A-ADC67820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436-458F-47F8-9A66-B5906BC17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F6F-CBF6-4842-BD0F-F16C980C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0552-7F5B-4F1A-B742-102AAEC6E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387D-CDFA-4474-A4CC-DBE45DD1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C727-2A33-46D9-9486-EA556CE7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D460-B848-4BAC-87D3-48C9D814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EB1C-D15B-4421-87F4-D564F9AD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6C7B-0191-49A6-9340-A3DBC1B6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506C-7A18-4050-9CFB-66C2570A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EDA7-BD64-4FA2-897C-A83219B5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0232-3FE0-4DDC-991C-82469670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D45B-3651-4673-B020-C99651AB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EF97-33A2-4454-A5C5-5E2E487C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0C40-8359-4A18-940E-C51B3F66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9676-9E6E-4C17-8021-84B67090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8740C-3CDD-4513-A90C-4C796CA6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54DC-82B8-4334-AC52-45D0BABF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1F99-B1ED-43BE-9CA9-A697B2BA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4AA5-2CD6-4501-A285-F257642E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BAB-2393-4CE7-8559-71F8C079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B3E-07AB-4807-B08B-4D38FDFD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BA77-54A8-4D16-BD40-9E3E2917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3B1-F8DD-44C4-A3BA-C8B366AF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418B-E424-40F4-9BA4-2319E06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6724-2140-496D-A5C2-6FBA8AECE3B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8D83-BAC8-41FC-B818-95A1A3C5368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Rectangle 2" descr=""/>
          <p:cNvPicPr/>
          <p:nvPr/>
        </p:nvPicPr>
        <p:blipFill>
          <a:blip r:embed="rId1"/>
          <a:stretch/>
        </p:blipFill>
        <p:spPr>
          <a:xfrm>
            <a:off x="822240" y="1841400"/>
            <a:ext cx="840744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619280" y="3499920"/>
            <a:ext cx="73454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International Skydiving Commission, FAI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83763"/>
                </a:solidFill>
                <a:latin typeface="Arial Unicode MS"/>
              </a:rPr>
              <a:t>Safety Report 2019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059280" y="2708280"/>
            <a:ext cx="38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156360" y="765000"/>
            <a:ext cx="176040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560" y="704880"/>
            <a:ext cx="87138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99640" y="1557360"/>
            <a:ext cx="754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anks are extended to all who sent data for this 2019 Safety Report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is Report, along with the Power Point presentation, and material listed below, has been sent by e-mail to all respondents and to all other countries for which the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&amp;S Committee has e-mail addresses, and by e-mail to all ISC Delegate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Safety Survey Report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2019 Safety Survey Report Power Point Presentation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Form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Safety Survey 2020 Notes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Parachuting Aircraft Incidents/Accidents Report 2020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PPEAL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ose countries who did not report for 2019 are requested to do so for 2020.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400" spc="-1" strike="noStrike">
                <a:solidFill>
                  <a:srgbClr val="000000"/>
                </a:solidFill>
                <a:latin typeface="Arial"/>
                <a:ea typeface="Arial"/>
              </a:rPr>
              <a:t>The compilation of data is to the benefit of the country gathering the data,  and to the worldwide skydiving community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539640" y="76500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83763"/>
                </a:solidFill>
                <a:latin typeface="Arial Unicode MS"/>
                <a:ea typeface="Arial Unicode MS"/>
              </a:rPr>
              <a:t>Thanks &amp; Report Distrib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7308720" y="620640"/>
            <a:ext cx="14716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Title 1" descr=""/>
          <p:cNvPicPr/>
          <p:nvPr/>
        </p:nvPicPr>
        <p:blipFill>
          <a:blip r:embed="rId1"/>
          <a:stretch/>
        </p:blipFill>
        <p:spPr>
          <a:xfrm>
            <a:off x="73080" y="469800"/>
            <a:ext cx="8620200" cy="1146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68000" y="2133360"/>
            <a:ext cx="8280360" cy="38163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46 countries responded, from a possible 82, a response rate of 56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he response rate was higher than in previous years but still remains at about this level for the 33 years of the Safety Survey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Countries are encouraged to put in place systems for the collection of safety dat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uch data is invaluable  - for use by parachuting organisations, dropzones, those involved in the areas of technical and safety matters, and when dealing with authoriti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6" descr="https://gallery.mailchimp.com/3f9c3d1fbda98e709fb819a78/images/020fe80e-dcce-4c88-b3f0-65c696acaf2f.jpg"/>
          <p:cNvPicPr/>
          <p:nvPr/>
        </p:nvPicPr>
        <p:blipFill>
          <a:blip r:embed="rId2"/>
          <a:stretch/>
        </p:blipFill>
        <p:spPr>
          <a:xfrm>
            <a:off x="6516720" y="620640"/>
            <a:ext cx="151128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640" y="479520"/>
            <a:ext cx="5905440" cy="699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2019 Safety Report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699920"/>
            <a:ext cx="692964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46 countries supplied dat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6,886,653 skydives were made b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1,534,538 jump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  <a:ea typeface="Arial"/>
              </a:rPr>
              <a:t>44 people were killed skydiv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these figures include Tandem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 Fatality per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156, 515 Jumps   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i="1" lang="en-IE" sz="2400" spc="-1" strike="noStrike">
                <a:solidFill>
                  <a:srgbClr val="000000"/>
                </a:solidFill>
                <a:latin typeface="Arial"/>
                <a:ea typeface="Arial"/>
              </a:rPr>
              <a:t>34,876 Jump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1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588000" y="620640"/>
            <a:ext cx="1440000" cy="9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9912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8 Student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8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0-25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 Intermediate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11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6-250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1 Expert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(70%)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51 + Freefal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- 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No pull/low pull on main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9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Total   -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	</a:t>
            </a:r>
            <a:r>
              <a:rPr b="1" i="1" lang="en-IE" sz="1800" spc="-1" strike="noStrike" u="sng">
                <a:solidFill>
                  <a:srgbClr val="000000"/>
                </a:solidFill>
                <a:uFillTx/>
                <a:latin typeface="Arial Unicode MS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620640"/>
            <a:ext cx="151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443640" y="620640"/>
            <a:ext cx="1655640" cy="10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64800" y="430200"/>
            <a:ext cx="544356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‘</a:t>
            </a: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Other’ Fatalities (34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417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Other Landing Error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Intentional Fast Land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6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Tandem Fatalitie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Hard Openings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Canopy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3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Freefall Collision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2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ain entangled with body, cutaway &amp; reserv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entanglement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own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Premature deployment in aircraft door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evere opening and twists to landing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Medical                                                                 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Landed spinning main, no cutaway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Assumed main activation, but no cutaway or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Unstable cutaway, reserve bridle caught, insufficient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drag to deploy reserve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6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Spinning under reserve                                                          1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IE" sz="17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6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1700" spc="-1" strike="noStrike" u="sng">
                <a:solidFill>
                  <a:srgbClr val="000000"/>
                </a:solidFill>
                <a:uFillTx/>
                <a:latin typeface="Arial Unicode MS"/>
              </a:rPr>
              <a:t>Total  39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9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Fatalities – Largest Group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Other Landing Errors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10 – 26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2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Intentional Fast Landings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6 – 15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3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utaway and no reserve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   5 – 11% of 44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900" spc="-1" strike="noStrike">
                <a:solidFill>
                  <a:srgbClr val="000000"/>
                </a:solidFill>
                <a:latin typeface="Arial Unicode MS"/>
              </a:rPr>
              <a:t>   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8686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anopy handling issues, combined –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16 (36% of total fatalities, 44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2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58436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417600"/>
            <a:ext cx="574992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ignificant Figur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00244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 algn="ctr">
              <a:lnSpc>
                <a:spcPct val="80000"/>
              </a:lnSpc>
              <a:spcBef>
                <a:spcPts val="649"/>
              </a:spcBef>
              <a:buClr>
                <a:srgbClr val="e2d700"/>
              </a:buClr>
              <a:buSzPct val="85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600" spc="-1" strike="noStrike">
                <a:solidFill>
                  <a:srgbClr val="000000"/>
                </a:solidFill>
                <a:latin typeface="Arial Unicode MS"/>
              </a:rPr>
              <a:t>OF THE 44 FATA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occurred with the parachutist having at least one good parachute on his/her back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28 (64%) occurred after the successful deployment of the main parachut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AAD would not have prevented any of the fataliti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e2d70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 Unicode MS"/>
              </a:rPr>
              <a:t>35 (80%) appear to have been caused by human er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00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                </a:t>
            </a:r>
            <a:r>
              <a:rPr b="1" i="1" lang="en-IE" sz="2000" spc="-1" strike="noStrike" u="sng">
                <a:solidFill>
                  <a:srgbClr val="000000"/>
                </a:solidFill>
                <a:uFillTx/>
                <a:latin typeface="Arial Unicode MS"/>
              </a:rPr>
              <a:t>Three of the 2019 fatalities were First Jump Students</a:t>
            </a:r>
            <a:r>
              <a:rPr b="1" i="1" lang="en-IE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5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20640"/>
            <a:ext cx="1761840" cy="10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71640" y="691920"/>
            <a:ext cx="590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Some Trends &amp; 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71640" y="1990800"/>
            <a:ext cx="741672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Continuing high percentage of fatalities resulting from canopy handling, canopy control, and land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Roughly similar percentage distribution of fatalities between Student/Intermediate/Expert as in previous years .  The category ‘Expert Skydiver’ continues to have the most fatalities, but it has the biggest numbers of jump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AAD and RSL are both now widely used, as all level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5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804000" y="692280"/>
            <a:ext cx="158436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277560"/>
            <a:ext cx="56656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400" spc="-1" strike="noStrike">
                <a:solidFill>
                  <a:srgbClr val="083763"/>
                </a:solidFill>
                <a:latin typeface="Arial Unicode MS"/>
              </a:rPr>
              <a:t>Tandem - Sol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276280"/>
            <a:ext cx="8229600" cy="237636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s 20%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Arial Unicode MS"/>
              </a:rPr>
              <a:t>all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jumps, Tandem + Sol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5,523,452 Solo jumps – 1,363,201 Tande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IE" sz="2400" spc="-1" strike="noStrike">
                <a:solidFill>
                  <a:srgbClr val="000000"/>
                </a:solidFill>
                <a:latin typeface="Arial Unicode MS"/>
              </a:rPr>
              <a:t>Tandem Fatalities 4; Solo Fatalities 40(44tota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1" name="Picture 4" descr="https://gallery.mailchimp.com/3f9c3d1fbda98e709fb819a78/images/020fe80e-dcce-4c88-b3f0-65c696acaf2f.jpg"/>
          <p:cNvPicPr/>
          <p:nvPr/>
        </p:nvPicPr>
        <p:blipFill>
          <a:blip r:embed="rId1"/>
          <a:stretch/>
        </p:blipFill>
        <p:spPr>
          <a:xfrm>
            <a:off x="6372360" y="692280"/>
            <a:ext cx="165564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1T14:02:11Z</dcterms:created>
  <dc:creator>Liam</dc:creator>
  <dc:description/>
  <dc:language>en-US</dc:language>
  <cp:lastModifiedBy>Liam</cp:lastModifiedBy>
  <dcterms:modified xsi:type="dcterms:W3CDTF">2021-01-07T22:43:03Z</dcterms:modified>
  <cp:revision>144</cp:revision>
  <dc:subject/>
  <dc:title>SAFETY &amp; TRAINING FORUM 25 January 2003</dc:title>
</cp:coreProperties>
</file>